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94920" y="5986080"/>
            <a:ext cx="604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646569"/>
                </a:solidFill>
                <a:latin typeface="Source Sans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Name des/der Vortragend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Titel der Veranstaltung (änderbar unter Ansicht &gt; Master &gt; Folienma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4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hteck 7"/>
          <p:cNvSpPr/>
          <p:nvPr/>
        </p:nvSpPr>
        <p:spPr>
          <a:xfrm>
            <a:off x="179280" y="189000"/>
            <a:ext cx="8785440" cy="6458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5"/>
          <p:cNvSpPr/>
          <p:nvPr/>
        </p:nvSpPr>
        <p:spPr>
          <a:xfrm>
            <a:off x="424080" y="1959120"/>
            <a:ext cx="69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minar on Active Ageing, Employment of Older Work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e for Family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ienna, April 23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409680" y="341784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00000"/>
                </a:solidFill>
                <a:latin typeface="Calibri"/>
              </a:rPr>
              <a:t>Caring relatives and federal support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94920" y="5986080"/>
            <a:ext cx="604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900" spc="-1" strike="noStrike">
                <a:solidFill>
                  <a:srgbClr val="646569"/>
                </a:solidFill>
                <a:latin typeface="Source Sans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646569"/>
                </a:solidFill>
                <a:latin typeface="Source Sans Pro"/>
              </a:rPr>
              <a:t>Mag. Alexander Miklaut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646569"/>
                </a:solidFill>
                <a:latin typeface="Source Sans Pro"/>
              </a:rPr>
              <a:t>Seminar on Active Ageing, Employment of Older Workers and Care for Family Memb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46569"/>
                </a:solidFill>
                <a:latin typeface="Source Sans Pro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zialministerium.at/" TargetMode="External"/><Relationship Id="rId2" Type="http://schemas.openxmlformats.org/officeDocument/2006/relationships/hyperlink" Target="http://www.sozialministerium.at//cms/siteEN/" TargetMode="External"/><Relationship Id="rId3" Type="http://schemas.openxmlformats.org/officeDocument/2006/relationships/hyperlink" Target="http://www.sozialministerium.at//cms/siteEN/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Age of the caring family members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Users\mac\Desktop\Alter Betreuungspersonen.JPG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Support for caring family members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c00000"/>
                </a:solidFill>
                <a:latin typeface="Source Sans Pro"/>
              </a:rPr>
              <a:t>1.) Social Service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Organised by the federal provinc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Long-Term-Care-Fun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2.) Financial Support for substitute car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For the main caring family member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In case of Absenc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3.) Free social insuranc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Pension- and health insuranc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4.) Financial support for 24-hour-car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Up to € 550/month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5.) Paid Care-Leav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For up to 3 month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Cash benefit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1.) Care/Social Services of the federal provinces 2012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0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:\Users\mac\Desktop\Social Services.JPG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Source Sans Pro"/>
              </a:rPr>
              <a:t>2.) Financial Support for substitute care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tiv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r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or at least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 year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pendent Person receives a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Pflegegel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of at least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evel 3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Level 1 for Minors or people with dementia)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bs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ring close relativ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cause of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illness,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holidays or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other important reasons,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nefit in height of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.200 up to € 2.200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max. 28 days/year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2013: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€ 11 Mio.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3.) Social insurance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Source Sans Pro"/>
              </a:rPr>
              <a:t>Continuing (pension) insurance for caregiving relative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Source Sans Pro"/>
              </a:rPr>
              <a:t>Voluntary (pension) self-insurance for caregiving relative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ing for a close relativ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e at hom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‘t work because of car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flegegel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at least of Level 3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Source Sans Pro"/>
              </a:rPr>
              <a:t>Health insurance for caregiving relative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Co-Insurance if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428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relative cares for a person with a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Pflegegel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at least Level 3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428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the carer also has a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Pflegegel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at least Level 3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Self-Insurance if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428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relative cares for his/her child with disabiliti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4.) Financial Support for 24-hour-care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Height of the subsidy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Up to </a:t>
            </a:r>
            <a:r>
              <a:rPr b="1" lang="en-GB" sz="1600" spc="-1" strike="noStrike">
                <a:solidFill>
                  <a:srgbClr val="000000"/>
                </a:solidFill>
                <a:latin typeface="Source Sans Pro"/>
              </a:rPr>
              <a:t>€ 1,100 </a:t>
            </a: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(in case of 2 employees; € 550 each) or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Up to </a:t>
            </a:r>
            <a:r>
              <a:rPr b="1" lang="en-GB" sz="1600" spc="-1" strike="noStrike">
                <a:solidFill>
                  <a:srgbClr val="000000"/>
                </a:solidFill>
                <a:latin typeface="Source Sans Pro"/>
              </a:rPr>
              <a:t>€ 550 </a:t>
            </a: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(in case of 2 self-employed carers, € 275 each).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Carers have to prove that they have either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completed a theoretical training course (the same as for a home help), </a:t>
            </a:r>
            <a:r>
              <a:rPr b="1" lang="en-GB" sz="1600" spc="-1" strike="noStrike">
                <a:solidFill>
                  <a:srgbClr val="000000"/>
                </a:solidFill>
                <a:latin typeface="Source Sans Pro"/>
              </a:rPr>
              <a:t>or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cared for this person in a proper manner for at least six months </a:t>
            </a:r>
            <a:r>
              <a:rPr b="1" lang="en-GB" sz="1600" spc="-1" strike="noStrike">
                <a:solidFill>
                  <a:srgbClr val="000000"/>
                </a:solidFill>
                <a:latin typeface="Source Sans Pro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An official authorisation for carrying out care or nursing work.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The dependent Person receives a “Pflegegeld” at least at Level 3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The income-limit of the dependent person is € 2,500 net per month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5.) Paid Care-Leave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Arrangement with employer to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stop working or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partly reduce the working-time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for 1 – 3 months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to care for a close relative who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receives a “</a:t>
            </a:r>
            <a:r>
              <a:rPr b="0" i="1" lang="en-GB" sz="1600" spc="-1" strike="noStrike">
                <a:solidFill>
                  <a:srgbClr val="000000"/>
                </a:solidFill>
                <a:latin typeface="Source Sans Pro"/>
              </a:rPr>
              <a:t>Pflegegeld</a:t>
            </a: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” at least of level 3 (Level 1 for minors or people with dementia)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=&gt; Title on a “</a:t>
            </a:r>
            <a:r>
              <a:rPr b="1" i="1" lang="en-GB" sz="1800" spc="-1" strike="noStrike">
                <a:solidFill>
                  <a:srgbClr val="000000"/>
                </a:solidFill>
                <a:latin typeface="Source Sans Pro"/>
              </a:rPr>
              <a:t>Pflegekarenzgeld</a:t>
            </a: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” (cash in case of care-leave)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As high as the unemployment benefit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Also pension- and health insuranc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34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Per dependent person a Pflegekarenzgeld is possible for up to 6 (12 in case of worsening) month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Thank you for your attention!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85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9999"/>
                </a:solidFill>
                <a:uFillTx/>
                <a:latin typeface="Source Sans Pro"/>
                <a:hlinkClick r:id="rId1"/>
              </a:rPr>
              <a:t>www.sozialministerium.at</a:t>
            </a:r>
            <a:r>
              <a:rPr b="1" lang="de-AT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9999"/>
                </a:solidFill>
                <a:uFillTx/>
                <a:latin typeface="Source Sans Pro"/>
                <a:hlinkClick r:id="rId2"/>
              </a:rPr>
              <a:t>http://www.sozialministerium.at//cms/siteEN</a:t>
            </a:r>
            <a:r>
              <a:rPr b="1" lang="de-AT" sz="1800" spc="-1" strike="noStrike" u="sng">
                <a:solidFill>
                  <a:srgbClr val="009999"/>
                </a:solidFill>
                <a:uFillTx/>
                <a:latin typeface="Source Sans Pro"/>
                <a:hlinkClick r:id="rId3"/>
              </a:rPr>
              <a:t>/</a:t>
            </a:r>
            <a:r>
              <a:rPr b="1" lang="de-AT" sz="1800" spc="-1" strike="noStrike">
                <a:solidFill>
                  <a:srgbClr val="000000"/>
                </a:solidFill>
                <a:latin typeface="Source Sans Pro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Source Sans Pro"/>
              </a:rPr>
              <a:t>(English Version)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7" name="Picture 6" descr="C:\Users\mac\Desktop\BMASKneu.jpg"/>
          <p:cNvPicPr/>
          <p:nvPr/>
        </p:nvPicPr>
        <p:blipFill>
          <a:blip r:embed="rId4"/>
          <a:stretch/>
        </p:blipFill>
        <p:spPr>
          <a:xfrm>
            <a:off x="1187280" y="1844640"/>
            <a:ext cx="669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The Austrian Care System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Cash Benefit („</a:t>
            </a:r>
            <a:r>
              <a:rPr b="1" i="1" lang="en-GB" sz="1800" spc="-1" strike="noStrike">
                <a:solidFill>
                  <a:srgbClr val="c00000"/>
                </a:solidFill>
                <a:latin typeface="Source Sans Pro"/>
              </a:rPr>
              <a:t>Pflegegeld</a:t>
            </a: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“)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approx. 440.000 people receiving a „</a:t>
            </a:r>
            <a:r>
              <a:rPr b="0" i="1" lang="en-GB" sz="1600" spc="-1" strike="noStrike">
                <a:solidFill>
                  <a:srgbClr val="000000"/>
                </a:solidFill>
                <a:latin typeface="Source Sans Pro"/>
              </a:rPr>
              <a:t>Pflegegeld</a:t>
            </a: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Granted in 7 Level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Social Service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Source Sans Pro"/>
              </a:rPr>
              <a:t>Informal Care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Quality Assurance in homecar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Financial Support for substitute car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Free social insuranc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Financial support for 24-hour-car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ource Sans Pro"/>
              </a:rPr>
              <a:t>Paid Care-Leave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c00000"/>
                </a:solidFill>
                <a:latin typeface="Source Sans Pro"/>
              </a:rPr>
              <a:t>Cash Benefit („Pflegegeld“)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224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Very </a:t>
            </a:r>
            <a:r>
              <a:rPr b="1" lang="en-GB" sz="1400" spc="-1" strike="noStrike">
                <a:solidFill>
                  <a:srgbClr val="000000"/>
                </a:solidFill>
                <a:latin typeface="Source Sans Pro"/>
              </a:rPr>
              <a:t>low access </a:t>
            </a: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(about </a:t>
            </a:r>
            <a:r>
              <a:rPr b="1" lang="en-GB" sz="1400" spc="-1" strike="noStrike">
                <a:solidFill>
                  <a:srgbClr val="000000"/>
                </a:solidFill>
                <a:latin typeface="Source Sans Pro"/>
              </a:rPr>
              <a:t>5,1 %</a:t>
            </a: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 of the persons in Austria receive a </a:t>
            </a:r>
            <a:r>
              <a:rPr b="0" i="1" lang="en-GB" sz="1400" spc="-1" strike="noStrike">
                <a:solidFill>
                  <a:srgbClr val="000000"/>
                </a:solidFill>
                <a:latin typeface="Source Sans Pro"/>
              </a:rPr>
              <a:t>Pflegegeld</a:t>
            </a: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Used to buy formal care services or to reimburse informal care giving </a:t>
            </a: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Guarantee an </a:t>
            </a:r>
            <a:r>
              <a:rPr b="1" lang="en-GB" sz="1400" spc="-1" strike="noStrike">
                <a:solidFill>
                  <a:srgbClr val="000000"/>
                </a:solidFill>
                <a:latin typeface="Source Sans Pro"/>
              </a:rPr>
              <a:t>autonomous and need-oriented live </a:t>
            </a:r>
            <a:r>
              <a:rPr b="0" lang="en-GB" sz="1400" spc="-1" strike="noStrike">
                <a:solidFill>
                  <a:srgbClr val="000000"/>
                </a:solidFill>
                <a:latin typeface="Source Sans Pro"/>
              </a:rPr>
              <a:t>(accordance Art. 3 lit. a of the Convention on the rights of persons with disabilities)</a:t>
            </a:r>
            <a:endParaRPr b="1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:\Users\mac\Desktop\Pflegegeld.JPG"/>
          <p:cNvPicPr/>
          <p:nvPr/>
        </p:nvPicPr>
        <p:blipFill>
          <a:blip r:embed="rId1"/>
          <a:stretch/>
        </p:blipFill>
        <p:spPr>
          <a:xfrm>
            <a:off x="1652760" y="1628640"/>
            <a:ext cx="56289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c00000"/>
                </a:solidFill>
                <a:latin typeface="Source Sans Pro"/>
              </a:rPr>
              <a:t>Pflegegeld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7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Inhaltsplatzhalter 4"/>
          <p:cNvGraphicFramePr/>
          <p:nvPr/>
        </p:nvGraphicFramePr>
        <p:xfrm>
          <a:off x="468360" y="1812960"/>
          <a:ext cx="626436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Inhaltsplatzhalt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12960"/>
                    <a:ext cx="62643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Textfeld 5"/>
          <p:cNvGrpSpPr/>
          <p:nvPr/>
        </p:nvGrpSpPr>
        <p:grpSpPr>
          <a:xfrm>
            <a:off x="6877080" y="1809720"/>
            <a:ext cx="1942920" cy="3030480"/>
            <a:chOff x="6877080" y="1809720"/>
            <a:chExt cx="1942920" cy="3030480"/>
          </a:xfrm>
        </p:grpSpPr>
        <p:pic>
          <p:nvPicPr>
            <p:cNvPr id="141" name="Textfeld 5" descr=""/>
            <p:cNvPicPr/>
            <p:nvPr/>
          </p:nvPicPr>
          <p:blipFill>
            <a:blip r:embed="rId3"/>
            <a:stretch/>
          </p:blipFill>
          <p:spPr>
            <a:xfrm>
              <a:off x="6877080" y="1809720"/>
              <a:ext cx="194292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970680" y="1908000"/>
              <a:ext cx="1754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c00000"/>
                  </a:solidFill>
                  <a:latin typeface="Calibri"/>
                </a:rPr>
                <a:t>290.603 Women receive a </a:t>
              </a:r>
              <a:r>
                <a:rPr b="1" i="1" lang="de-AT" sz="1800" spc="-1" strike="noStrike">
                  <a:solidFill>
                    <a:srgbClr val="c00000"/>
                  </a:solidFill>
                  <a:latin typeface="Calibri"/>
                </a:rPr>
                <a:t>Pflegegel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c00000"/>
                  </a:solidFill>
                  <a:latin typeface="Calibri"/>
                </a:rPr>
                <a:t>= 65,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254a93"/>
                  </a:solidFill>
                  <a:latin typeface="Calibri"/>
                </a:rPr>
                <a:t>154.092 Men receive a </a:t>
              </a:r>
              <a:r>
                <a:rPr b="1" i="1" lang="de-AT" sz="1800" spc="-1" strike="noStrike">
                  <a:solidFill>
                    <a:srgbClr val="254a93"/>
                  </a:solidFill>
                  <a:latin typeface="Calibri"/>
                </a:rPr>
                <a:t>Pflegege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254a93"/>
                  </a:solidFill>
                  <a:latin typeface="Calibri"/>
                </a:rPr>
                <a:t>= 34,7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Care Situation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nhaltsplatzhalter 8" descr=""/>
          <p:cNvPicPr/>
          <p:nvPr/>
        </p:nvPicPr>
        <p:blipFill>
          <a:blip r:embed="rId1"/>
          <a:stretch/>
        </p:blipFill>
        <p:spPr>
          <a:xfrm>
            <a:off x="344520" y="1793880"/>
            <a:ext cx="8454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Source Sans Pro"/>
              </a:rPr>
              <a:t>Quality Assurance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20.000 home </a:t>
            </a: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visits of </a:t>
            </a:r>
            <a:r>
              <a:rPr b="0" i="1" lang="en-GB" sz="1800" spc="-1" strike="noStrike">
                <a:solidFill>
                  <a:srgbClr val="000000"/>
                </a:solidFill>
                <a:latin typeface="Source Sans Pro"/>
              </a:rPr>
              <a:t>Pflegegeld-</a:t>
            </a: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 beneficiaries every </a:t>
            </a: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year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Home visit is </a:t>
            </a: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free and voluntary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Made by professional carers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What is made?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ocating of the concrete care situation (standardised Report)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ing and practicing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necessary =&gt;</a:t>
            </a:r>
            <a:r>
              <a:rPr b="0" lang="de-A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urther measur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made?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view of the care level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gal status of the carer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Rating </a:t>
            </a: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of the </a:t>
            </a: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care situation </a:t>
            </a: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in 4 domains </a:t>
            </a:r>
            <a:r>
              <a:rPr b="1" lang="en-GB" sz="1800" spc="-1" strike="noStrike">
                <a:solidFill>
                  <a:srgbClr val="000000"/>
                </a:solidFill>
                <a:latin typeface="Source Sans Pro"/>
              </a:rPr>
              <a:t>&amp; Evaluation </a:t>
            </a:r>
            <a:r>
              <a:rPr b="0" lang="en-GB" sz="1800" spc="-1" strike="noStrike">
                <a:solidFill>
                  <a:srgbClr val="000000"/>
                </a:solidFill>
                <a:latin typeface="Source Sans Pro"/>
              </a:rPr>
              <a:t>of the Data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Domains-Rating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1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mac\Desktop\Domains.JPG"/>
          <p:cNvPicPr/>
          <p:nvPr/>
        </p:nvPicPr>
        <p:blipFill>
          <a:blip r:embed="rId1"/>
          <a:stretch/>
        </p:blipFill>
        <p:spPr>
          <a:xfrm>
            <a:off x="324000" y="1844640"/>
            <a:ext cx="849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Burden of caring familiy members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Source Sans Pro"/>
              </a:rPr>
              <a:t>Psychological Burden: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425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ource Sans Pro"/>
              </a:rPr>
              <a:t>Responsibility: 65,01 %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lvl="1" marL="425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ource Sans Pro"/>
              </a:rPr>
              <a:t>Fear: 54,83 %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lvl="1" marL="425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ource Sans Pro"/>
              </a:rPr>
              <a:t>Waiver: 48,89 %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lvl="1" marL="425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ource Sans Pro"/>
              </a:rPr>
              <a:t>Time Pressure: 25,02 %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5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mac\Desktop\Burden.JPG"/>
          <p:cNvPicPr/>
          <p:nvPr/>
        </p:nvPicPr>
        <p:blipFill>
          <a:blip r:embed="rId1"/>
          <a:stretch/>
        </p:blipFill>
        <p:spPr>
          <a:xfrm>
            <a:off x="1763640" y="1844640"/>
            <a:ext cx="595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c00000"/>
                </a:solidFill>
                <a:latin typeface="Source Sans Pro"/>
              </a:rPr>
              <a:t>Job situation of the caring family members</a:t>
            </a:r>
            <a:endParaRPr b="1" lang="en-US" sz="24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Source Sans Pro"/>
              </a:rPr>
              <a:t>29,1 % are employed (double burden of job and care)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Source Sans Pro"/>
              </a:rPr>
              <a:t>23,52 % had to reduce or quit their job</a:t>
            </a: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Mag. Alexander Miklau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Seminar on Active Ageing, Employment of Older Workers and Care for Family Me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46569"/>
                </a:solidFill>
                <a:latin typeface="Calibri"/>
              </a:rPr>
              <a:t>Vienna, April 23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mac\Desktop\Job situation.JPG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1Z</dcterms:created>
  <dc:creator>wrd</dc:creator>
  <dc:description/>
  <dc:language>en-US</dc:language>
  <cp:lastModifiedBy>BERGMANN Ester</cp:lastModifiedBy>
  <cp:lastPrinted>2014-04-22T09:58:16Z</cp:lastPrinted>
  <dcterms:modified xsi:type="dcterms:W3CDTF">2014-04-22T09:58:44Z</dcterms:modified>
  <cp:revision>82</cp:revision>
  <dc:subject/>
  <dc:title>Folie 1</dc:title>
</cp:coreProperties>
</file>